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15989-111B-4491-8FED-3F6F55FA0D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851C-96EE-4B69-9E64-AEA91073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80461-D523-4BAD-9F76-DF3BF738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96BA-B161-4C5E-9333-FB2C7DA823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704C8-BAAF-4299-95C8-50C52732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6CA01-315E-4AAD-A2C0-5105272A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8AA96-0AC1-4A67-9BD4-9F6E3D5F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30CC-1E1E-4C1D-B00D-37E4BD6B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381E9-6E16-4805-B735-F5D9AACE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3ABF-0A38-4F2B-B356-2B4B06F8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A679D-0776-4968-BDFD-B93210CB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A76F-6EDB-4ACB-B9A2-29CBB877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0534-6421-45A0-B10B-15A52776922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57120" y="2928960"/>
            <a:ext cx="48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作用于血液及造血系统的药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97128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与抗凝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结合，引起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 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构象变化，加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T-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IIa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IX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XIIa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（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Ser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的作用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3962520" y="1752480"/>
            <a:ext cx="1828800" cy="266724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3962520" y="2743200"/>
            <a:ext cx="38088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5410080" y="2514600"/>
            <a:ext cx="381240" cy="9144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715000" y="1600200"/>
            <a:ext cx="914400" cy="1066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77" name="AutoShape 6"/>
          <p:cNvCxnSpPr/>
          <p:nvPr/>
        </p:nvCxnSpPr>
        <p:spPr>
          <a:xfrm flipH="1" rot="16200000">
            <a:off x="2491200" y="1317240"/>
            <a:ext cx="1701000" cy="1351800"/>
          </a:xfrm>
          <a:prstGeom prst="curvedConnector5">
            <a:avLst>
              <a:gd name="adj1" fmla="val 47057"/>
              <a:gd name="adj2" fmla="val 50000"/>
              <a:gd name="adj3" fmla="val 47057"/>
            </a:avLst>
          </a:prstGeom>
          <a:ln w="34920">
            <a:solidFill>
              <a:srgbClr val="046ca6"/>
            </a:solidFill>
            <a:miter/>
            <a:tailEnd len="lg" type="triangle" w="med"/>
          </a:ln>
        </p:spPr>
      </p:cxnSp>
      <p:sp>
        <p:nvSpPr>
          <p:cNvPr id="178" name="Text Box 7"/>
          <p:cNvSpPr/>
          <p:nvPr/>
        </p:nvSpPr>
        <p:spPr>
          <a:xfrm>
            <a:off x="1476360" y="981000"/>
            <a:ext cx="29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精氨酸反应中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6620400" y="1014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赖氨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80" name="Group 9"/>
          <p:cNvGrpSpPr/>
          <p:nvPr/>
        </p:nvGrpSpPr>
        <p:grpSpPr>
          <a:xfrm>
            <a:off x="5940000" y="1956960"/>
            <a:ext cx="2990520" cy="1882800"/>
            <a:chOff x="5940000" y="1956960"/>
            <a:chExt cx="2990520" cy="1882800"/>
          </a:xfrm>
        </p:grpSpPr>
        <p:sp>
          <p:nvSpPr>
            <p:cNvPr id="181" name="Line 10"/>
            <p:cNvSpPr/>
            <p:nvPr/>
          </p:nvSpPr>
          <p:spPr>
            <a:xfrm flipH="1">
              <a:off x="5940000" y="2898360"/>
              <a:ext cx="1618920" cy="25128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2" name="Group 11"/>
            <p:cNvGrpSpPr/>
            <p:nvPr/>
          </p:nvGrpSpPr>
          <p:grpSpPr>
            <a:xfrm>
              <a:off x="7240680" y="1956960"/>
              <a:ext cx="1689840" cy="1882800"/>
              <a:chOff x="7240680" y="1956960"/>
              <a:chExt cx="1689840" cy="1882800"/>
            </a:xfrm>
          </p:grpSpPr>
          <p:sp>
            <p:nvSpPr>
              <p:cNvPr id="183" name="Oval 12"/>
              <p:cNvSpPr/>
              <p:nvPr/>
            </p:nvSpPr>
            <p:spPr>
              <a:xfrm rot="2100000">
                <a:off x="7640280" y="2060640"/>
                <a:ext cx="889920" cy="16754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4" name="Text Box 13"/>
              <p:cNvSpPr/>
              <p:nvPr/>
            </p:nvSpPr>
            <p:spPr>
              <a:xfrm>
                <a:off x="7955640" y="231192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肝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素</a:t>
                </a: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Group 14"/>
          <p:cNvGrpSpPr/>
          <p:nvPr/>
        </p:nvGrpSpPr>
        <p:grpSpPr>
          <a:xfrm>
            <a:off x="304920" y="1447920"/>
            <a:ext cx="3657600" cy="3597840"/>
            <a:chOff x="304920" y="1447920"/>
            <a:chExt cx="3657600" cy="3597840"/>
          </a:xfrm>
        </p:grpSpPr>
        <p:sp>
          <p:nvSpPr>
            <p:cNvPr id="186" name="Line 15"/>
            <p:cNvSpPr/>
            <p:nvPr/>
          </p:nvSpPr>
          <p:spPr>
            <a:xfrm flipV="1">
              <a:off x="2443320" y="3200400"/>
              <a:ext cx="1519200" cy="23976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87" name="Group 16"/>
            <p:cNvGrpSpPr/>
            <p:nvPr/>
          </p:nvGrpSpPr>
          <p:grpSpPr>
            <a:xfrm>
              <a:off x="377640" y="2514600"/>
              <a:ext cx="2538000" cy="2531160"/>
              <a:chOff x="377640" y="2514600"/>
              <a:chExt cx="2538000" cy="2531160"/>
            </a:xfrm>
          </p:grpSpPr>
          <p:sp>
            <p:nvSpPr>
              <p:cNvPr id="188" name="Oval 17"/>
              <p:cNvSpPr/>
              <p:nvPr/>
            </p:nvSpPr>
            <p:spPr>
              <a:xfrm rot="8700000">
                <a:off x="1294560" y="2742840"/>
                <a:ext cx="1157400" cy="198108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9" name="Oval 18"/>
              <p:cNvSpPr/>
              <p:nvPr/>
            </p:nvSpPr>
            <p:spPr>
              <a:xfrm rot="8700000">
                <a:off x="1920240" y="3257280"/>
                <a:ext cx="522360" cy="7729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Text Box 19"/>
              <p:cNvSpPr/>
              <p:nvPr/>
            </p:nvSpPr>
            <p:spPr>
              <a:xfrm>
                <a:off x="377640" y="2514600"/>
                <a:ext cx="1155960" cy="253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IX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a 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XIIa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1" name="Line 20"/>
            <p:cNvSpPr/>
            <p:nvPr/>
          </p:nvSpPr>
          <p:spPr>
            <a:xfrm>
              <a:off x="1523880" y="2133720"/>
              <a:ext cx="762120" cy="114300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Text Box 21"/>
            <p:cNvSpPr/>
            <p:nvPr/>
          </p:nvSpPr>
          <p:spPr>
            <a:xfrm>
              <a:off x="304920" y="1447920"/>
              <a:ext cx="175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丝氨酸活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幼圆"/>
                  <a:ea typeface="幼圆"/>
                </a:rPr>
                <a:t>性中心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3" name="Text Box 22"/>
          <p:cNvSpPr/>
          <p:nvPr/>
        </p:nvSpPr>
        <p:spPr>
          <a:xfrm>
            <a:off x="3018240" y="5692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幼圆"/>
                <a:ea typeface="幼圆"/>
              </a:rPr>
              <a:t>肝素的药理作用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23"/>
          <p:cNvSpPr/>
          <p:nvPr/>
        </p:nvSpPr>
        <p:spPr>
          <a:xfrm>
            <a:off x="3352680" y="342900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AT-III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3454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降脂  水解乳糜微粒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VLD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血管内膜增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聚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04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幼圆"/>
                <a:ea typeface="幼圆"/>
              </a:rPr>
              <a:t>三、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栓栓塞性疾病：肺栓塞、深部静脉栓塞、脑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弥散性血管内凝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早期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肌梗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血管手术，心导管及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900000" y="1267920"/>
            <a:ext cx="7925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四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量：自发性出血 </a:t>
            </a:r>
            <a:r>
              <a:rPr b="1" lang="zh-CN" sz="3200" spc="-1" strike="noStrike">
                <a:solidFill>
                  <a:srgbClr val="fe230c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抢救：正电荷、强碱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鱼精蛋白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抑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PAF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，导致血小板减少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过敏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早产及胎儿死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1896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幼圆"/>
              </a:rPr>
              <a:t>骨质疏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7640" y="404280"/>
            <a:ext cx="696924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★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香豆素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口服抗凝药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42920" y="3715920"/>
            <a:ext cx="6120000" cy="28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药理作用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外无抗凝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凝血因子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起效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停药后作用可维持数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600200"/>
            <a:ext cx="78645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双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icoumaro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）、华法林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warfarin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苄丙酮香豆素）、醋硝香豆素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cenocoumarol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新抗凝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479520" y="981000"/>
            <a:ext cx="8434080" cy="5321160"/>
            <a:chOff x="479520" y="981000"/>
            <a:chExt cx="8434080" cy="5321160"/>
          </a:xfrm>
        </p:grpSpPr>
        <p:sp>
          <p:nvSpPr>
            <p:cNvPr id="202" name="Text Box 3"/>
            <p:cNvSpPr/>
            <p:nvPr/>
          </p:nvSpPr>
          <p:spPr>
            <a:xfrm>
              <a:off x="3134880" y="3495600"/>
              <a:ext cx="90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963680" y="34956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5"/>
            <p:cNvSpPr/>
            <p:nvPr/>
          </p:nvSpPr>
          <p:spPr>
            <a:xfrm>
              <a:off x="3287520" y="2657160"/>
              <a:ext cx="2514240" cy="838440"/>
            </a:xfrm>
            <a:custGeom>
              <a:avLst/>
              <a:gdLst>
                <a:gd name="textAreaLeft" fmla="*/ 439920 w 2514240"/>
                <a:gd name="textAreaRight" fmla="*/ 1823040 w 251424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AutoShape 6"/>
            <p:cNvSpPr/>
            <p:nvPr/>
          </p:nvSpPr>
          <p:spPr>
            <a:xfrm flipH="1">
              <a:off x="3134160" y="4028760"/>
              <a:ext cx="2361960" cy="762120"/>
            </a:xfrm>
            <a:custGeom>
              <a:avLst/>
              <a:gdLst>
                <a:gd name="textAreaLeft" fmla="*/ 413280 w 2361960"/>
                <a:gd name="textAreaRight" fmla="*/ 1712520 w 236196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7"/>
            <p:cNvSpPr/>
            <p:nvPr/>
          </p:nvSpPr>
          <p:spPr>
            <a:xfrm>
              <a:off x="2220480" y="2504880"/>
              <a:ext cx="441936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592080" y="1285560"/>
              <a:ext cx="182844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Text Box 9"/>
            <p:cNvSpPr/>
            <p:nvPr/>
          </p:nvSpPr>
          <p:spPr>
            <a:xfrm>
              <a:off x="2982600" y="5781600"/>
              <a:ext cx="472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851400" y="11332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1077480" y="15904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Text Box 12"/>
            <p:cNvSpPr/>
            <p:nvPr/>
          </p:nvSpPr>
          <p:spPr>
            <a:xfrm>
              <a:off x="843840" y="19620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1077480" y="24285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Text Box 14"/>
            <p:cNvSpPr/>
            <p:nvPr/>
          </p:nvSpPr>
          <p:spPr>
            <a:xfrm>
              <a:off x="843840" y="2876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Line 15"/>
            <p:cNvSpPr/>
            <p:nvPr/>
          </p:nvSpPr>
          <p:spPr>
            <a:xfrm>
              <a:off x="1077480" y="334296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6"/>
            <p:cNvSpPr/>
            <p:nvPr/>
          </p:nvSpPr>
          <p:spPr>
            <a:xfrm>
              <a:off x="851400" y="38764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Line 17"/>
            <p:cNvSpPr/>
            <p:nvPr/>
          </p:nvSpPr>
          <p:spPr>
            <a:xfrm>
              <a:off x="1458720" y="4181400"/>
              <a:ext cx="53280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18"/>
            <p:cNvSpPr/>
            <p:nvPr/>
          </p:nvSpPr>
          <p:spPr>
            <a:xfrm>
              <a:off x="1918440" y="39528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19"/>
            <p:cNvSpPr/>
            <p:nvPr/>
          </p:nvSpPr>
          <p:spPr>
            <a:xfrm>
              <a:off x="479520" y="479088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Line 20"/>
            <p:cNvSpPr/>
            <p:nvPr/>
          </p:nvSpPr>
          <p:spPr>
            <a:xfrm>
              <a:off x="1077480" y="433368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Text Box 21"/>
            <p:cNvSpPr/>
            <p:nvPr/>
          </p:nvSpPr>
          <p:spPr>
            <a:xfrm>
              <a:off x="7268040" y="1168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22"/>
            <p:cNvSpPr/>
            <p:nvPr/>
          </p:nvSpPr>
          <p:spPr>
            <a:xfrm>
              <a:off x="6803280" y="189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Line 23"/>
            <p:cNvSpPr/>
            <p:nvPr/>
          </p:nvSpPr>
          <p:spPr>
            <a:xfrm>
              <a:off x="7036920" y="236196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24"/>
            <p:cNvSpPr/>
            <p:nvPr/>
          </p:nvSpPr>
          <p:spPr>
            <a:xfrm>
              <a:off x="6803280" y="28098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7036920" y="327636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Text Box 26"/>
            <p:cNvSpPr/>
            <p:nvPr/>
          </p:nvSpPr>
          <p:spPr>
            <a:xfrm>
              <a:off x="6810840" y="380988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Line 27"/>
            <p:cNvSpPr/>
            <p:nvPr/>
          </p:nvSpPr>
          <p:spPr>
            <a:xfrm>
              <a:off x="7341840" y="4114440"/>
              <a:ext cx="38052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28"/>
            <p:cNvSpPr/>
            <p:nvPr/>
          </p:nvSpPr>
          <p:spPr>
            <a:xfrm>
              <a:off x="6514560" y="472428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7036920" y="426708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9" name="Text Box 30"/>
            <p:cNvSpPr/>
            <p:nvPr/>
          </p:nvSpPr>
          <p:spPr>
            <a:xfrm>
              <a:off x="7649280" y="383508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 flipH="1">
              <a:off x="7036560" y="1599840"/>
              <a:ext cx="45684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 flipH="1" flipV="1">
              <a:off x="6579720" y="1599480"/>
              <a:ext cx="38088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Rectangle 33"/>
            <p:cNvSpPr/>
            <p:nvPr/>
          </p:nvSpPr>
          <p:spPr>
            <a:xfrm>
              <a:off x="4430520" y="4333680"/>
              <a:ext cx="7560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Text Box 34"/>
            <p:cNvSpPr/>
            <p:nvPr/>
          </p:nvSpPr>
          <p:spPr>
            <a:xfrm>
              <a:off x="4116600" y="4995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Text Box 35"/>
            <p:cNvSpPr/>
            <p:nvPr/>
          </p:nvSpPr>
          <p:spPr>
            <a:xfrm>
              <a:off x="621720" y="532440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Rectangle 36"/>
            <p:cNvSpPr/>
            <p:nvPr/>
          </p:nvSpPr>
          <p:spPr>
            <a:xfrm>
              <a:off x="5649480" y="981000"/>
              <a:ext cx="152388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Text Box 37"/>
            <p:cNvSpPr/>
            <p:nvPr/>
          </p:nvSpPr>
          <p:spPr>
            <a:xfrm>
              <a:off x="5573520" y="3419280"/>
              <a:ext cx="108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38"/>
            <p:cNvSpPr/>
            <p:nvPr/>
          </p:nvSpPr>
          <p:spPr>
            <a:xfrm>
              <a:off x="2283120" y="34430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Text Box 39"/>
          <p:cNvSpPr/>
          <p:nvPr/>
        </p:nvSpPr>
        <p:spPr>
          <a:xfrm>
            <a:off x="3059280" y="404640"/>
            <a:ext cx="52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（谷氨酸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抑制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由环氧化物向氢醌型转化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阻碍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再利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从而抑制肝合成凝血因子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含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Glu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AutoShape 3">
            <a:hlinkClick r:id="rId1" action="ppaction://hlinksldjump"/>
          </p:cNvPr>
          <p:cNvSpPr/>
          <p:nvPr/>
        </p:nvSpPr>
        <p:spPr>
          <a:xfrm>
            <a:off x="7467480" y="5867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162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体内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华法林、双香豆素：血浆蛋结合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0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99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治疗血栓栓塞性疾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深静脉血栓形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肌梗死治疗辅助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55280" y="1341360"/>
            <a:ext cx="77691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五、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出血：静脉注射维生素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(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植物甲萘醌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对抗，输新鲜血浆或全血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胎儿出血和畸胎生成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皮肤坏死、 过敏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403280" y="1484280"/>
            <a:ext cx="309744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Times New Roman"/>
                <a:ea typeface="宋体"/>
              </a:rPr>
              <a:t>抗凝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5796000" y="189000"/>
            <a:ext cx="3348000" cy="2592360"/>
          </a:xfrm>
          <a:prstGeom prst="cloudCallout">
            <a:avLst>
              <a:gd name="adj1" fmla="val -96847"/>
              <a:gd name="adj2" fmla="val -70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AT-Ⅲ</a:t>
            </a:r>
            <a:r>
              <a:rPr b="0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9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1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12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）蛋白质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  <a:ea typeface="宋体"/>
              </a:rPr>
              <a:t>组织因子途径抑制物，肝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403280" y="2637000"/>
            <a:ext cx="3168720" cy="86328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6227640" y="2852640"/>
            <a:ext cx="2448000" cy="1368360"/>
          </a:xfrm>
          <a:prstGeom prst="cloudCallout">
            <a:avLst>
              <a:gd name="adj1" fmla="val -129115"/>
              <a:gd name="adj2" fmla="val -33412"/>
            </a:avLst>
          </a:prstGeom>
          <a:solidFill>
            <a:srgbClr val="00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凝血因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宋体"/>
              </a:rPr>
              <a:t>血小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403280" y="3789360"/>
            <a:ext cx="30974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溶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6084720" y="4437000"/>
            <a:ext cx="2519640" cy="1368360"/>
          </a:xfrm>
          <a:prstGeom prst="cloudCallout">
            <a:avLst>
              <a:gd name="adj1" fmla="val -122212"/>
              <a:gd name="adj2" fmla="val -36888"/>
            </a:avLst>
          </a:prstGeom>
          <a:solidFill>
            <a:srgbClr val="ff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纤溶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1403280" y="5084640"/>
            <a:ext cx="2808360" cy="144000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611280" y="1628640"/>
            <a:ext cx="574560" cy="2951280"/>
          </a:xfrm>
          <a:custGeom>
            <a:avLst/>
            <a:gdLst>
              <a:gd name="textAreaLeft" fmla="*/ 367200 w 574560"/>
              <a:gd name="textAreaRight" fmla="*/ 574920 w 57456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2556000" y="333360"/>
            <a:ext cx="2808000" cy="863640"/>
          </a:xfrm>
          <a:prstGeom prst="rect">
            <a:avLst/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Keep balanc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87640" y="421920"/>
            <a:ext cx="5960880" cy="37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其他体外抗凝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43120" y="1634760"/>
            <a:ext cx="6524640" cy="20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枸橼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钠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草酸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钙离子而抗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696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节 纤维蛋白溶解药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5808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系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维蛋白溶解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纤溶酶原的激活物或抑制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468360" y="36450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139068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内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228600" y="1371600"/>
            <a:ext cx="1447920" cy="685800"/>
          </a:xfrm>
          <a:prstGeom prst="rec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前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Line 4"/>
          <p:cNvSpPr/>
          <p:nvPr/>
        </p:nvSpPr>
        <p:spPr>
          <a:xfrm>
            <a:off x="1752480" y="1752480"/>
            <a:ext cx="60984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2362320" y="1371600"/>
            <a:ext cx="12189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尿激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228600" y="2514600"/>
            <a:ext cx="175248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组织型纤溶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幼圆"/>
                <a:ea typeface="幼圆"/>
              </a:rPr>
              <a:t>原激活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t-P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 rot="2700000">
            <a:off x="2658960" y="2967120"/>
            <a:ext cx="91800" cy="609480"/>
          </a:xfrm>
          <a:prstGeom prst="rect">
            <a:avLst/>
          </a:prstGeom>
          <a:solidFill>
            <a:srgbClr val="ffffff"/>
          </a:solidFill>
          <a:ln w="64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006280" y="358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维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9"/>
          <p:cNvSpPr/>
          <p:nvPr/>
        </p:nvSpPr>
        <p:spPr>
          <a:xfrm>
            <a:off x="3657600" y="914400"/>
            <a:ext cx="2514600" cy="3809880"/>
          </a:xfrm>
          <a:prstGeom prst="downArrow">
            <a:avLst>
              <a:gd name="adj1" fmla="val 50000"/>
              <a:gd name="adj2" fmla="val 3787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3733920" y="228600"/>
            <a:ext cx="2286000" cy="68580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3733920" y="4724280"/>
            <a:ext cx="236196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纤溶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1219320" y="609480"/>
            <a:ext cx="121896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419720" y="1219320"/>
            <a:ext cx="11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Arg560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>
            <a:off x="4952880" y="1676520"/>
            <a:ext cx="0" cy="1447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4334760" y="3027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幼圆"/>
                <a:ea typeface="幼圆"/>
              </a:rPr>
              <a:t>Val56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7715520" y="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外源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Line 17"/>
          <p:cNvSpPr/>
          <p:nvPr/>
        </p:nvSpPr>
        <p:spPr>
          <a:xfrm>
            <a:off x="7543800" y="609480"/>
            <a:ext cx="1219320" cy="0"/>
          </a:xfrm>
          <a:prstGeom prst="line">
            <a:avLst/>
          </a:prstGeom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6095880" y="2057400"/>
            <a:ext cx="11430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PIg+S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Line 19"/>
          <p:cNvSpPr/>
          <p:nvPr/>
        </p:nvSpPr>
        <p:spPr>
          <a:xfrm flipH="1">
            <a:off x="7162920" y="1828800"/>
            <a:ext cx="38088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Line 20"/>
          <p:cNvSpPr/>
          <p:nvPr/>
        </p:nvSpPr>
        <p:spPr>
          <a:xfrm flipH="1" flipV="1">
            <a:off x="7238880" y="2666520"/>
            <a:ext cx="457200" cy="6858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7162920" y="3429000"/>
            <a:ext cx="1523880" cy="1066680"/>
          </a:xfrm>
          <a:prstGeom prst="rect">
            <a:avLst/>
          </a:prstGeom>
          <a:solidFill>
            <a:srgbClr val="3399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阿尼普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APSAC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7349760" y="14270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幼圆"/>
                <a:ea typeface="幼圆"/>
              </a:rPr>
              <a:t>PI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Line 23"/>
          <p:cNvSpPr/>
          <p:nvPr/>
        </p:nvSpPr>
        <p:spPr>
          <a:xfrm flipH="1">
            <a:off x="7848720" y="1371600"/>
            <a:ext cx="457200" cy="22860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7620120" y="838080"/>
            <a:ext cx="121896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链激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3373920" y="5859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幼圆"/>
                <a:ea typeface="幼圆"/>
              </a:rPr>
              <a:t>纤溶药的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AutoShape 26"/>
          <p:cNvSpPr/>
          <p:nvPr/>
        </p:nvSpPr>
        <p:spPr>
          <a:xfrm>
            <a:off x="5562720" y="2286000"/>
            <a:ext cx="457200" cy="76320"/>
          </a:xfrm>
          <a:prstGeom prst="leftArrow">
            <a:avLst>
              <a:gd name="adj1" fmla="val 50000"/>
              <a:gd name="adj2" fmla="val 149764"/>
            </a:avLst>
          </a:prstGeom>
          <a:solidFill>
            <a:srgbClr val="993300"/>
          </a:solidFill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27"/>
          <p:cNvSpPr/>
          <p:nvPr/>
        </p:nvSpPr>
        <p:spPr>
          <a:xfrm>
            <a:off x="2133720" y="3048120"/>
            <a:ext cx="213336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Line 28"/>
          <p:cNvSpPr/>
          <p:nvPr/>
        </p:nvSpPr>
        <p:spPr>
          <a:xfrm>
            <a:off x="3581280" y="1752480"/>
            <a:ext cx="685800" cy="0"/>
          </a:xfrm>
          <a:prstGeom prst="line">
            <a:avLst/>
          </a:prstGeom>
          <a:ln w="57240">
            <a:solidFill>
              <a:srgbClr val="046ca6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Line 29"/>
          <p:cNvSpPr/>
          <p:nvPr/>
        </p:nvSpPr>
        <p:spPr>
          <a:xfrm flipH="1">
            <a:off x="4495680" y="1981080"/>
            <a:ext cx="91440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Line 30"/>
          <p:cNvSpPr/>
          <p:nvPr/>
        </p:nvSpPr>
        <p:spPr>
          <a:xfrm>
            <a:off x="4495680" y="1981080"/>
            <a:ext cx="990720" cy="76212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链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4360" y="227664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组溶血性链球菌产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使纤溶酶原形成纤溶酶，有免疫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于血栓栓塞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9" name="Line 4"/>
          <p:cNvSpPr/>
          <p:nvPr/>
        </p:nvSpPr>
        <p:spPr>
          <a:xfrm>
            <a:off x="3348000" y="4724280"/>
            <a:ext cx="60948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尿激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325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人肾细胞合成，无抗原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直接使纤溶酶原断裂成纤溶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选择性差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4200" y="421920"/>
            <a:ext cx="745812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Verdana"/>
                <a:ea typeface="宋体"/>
              </a:rPr>
              <a:t>组织型纤溶酶原激活剂  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  <a:ea typeface="宋体"/>
              </a:rPr>
              <a:t>t-P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798516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与纤维蛋白连接的纤溶酶原选择性强，对血循环中游离的纤溶酶原弱，减少出血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26920" y="2637000"/>
            <a:ext cx="7769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血小板的黏附，聚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理性致聚剂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,E,TXA2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黏附和聚集都需要血小板膜上糖蛋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3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抗血小板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755280" y="1197000"/>
            <a:ext cx="79916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根据作用机制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制血小板花生四烯酸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环氧酶抑制药：阿司匹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X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酶抑制药： 利多格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磷酸二酯酶抑制剂：双嘧达莫（潘生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9964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干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AD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介导的血小板活化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噻氯匹啶（抵克立得）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氯吡格雷 （波立维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凝血酶抑制药 水蛭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GPIIb/III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受体阻断药 ：阿昔单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蚂蟥"/>
          <p:cNvPicPr/>
          <p:nvPr/>
        </p:nvPicPr>
        <p:blipFill>
          <a:blip r:embed="rId1"/>
          <a:stretch/>
        </p:blipFill>
        <p:spPr>
          <a:xfrm>
            <a:off x="1619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187280" y="4508640"/>
            <a:ext cx="2664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1187280" y="112536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凝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5003640" y="189000"/>
            <a:ext cx="3673800" cy="3671640"/>
          </a:xfrm>
          <a:prstGeom prst="wedgeRoundRectCallout">
            <a:avLst>
              <a:gd name="adj1" fmla="val -72731"/>
              <a:gd name="adj2" fmla="val -18657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1 anti-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2  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3  anti-platele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血小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4500720" y="4076640"/>
            <a:ext cx="4392360" cy="2781360"/>
          </a:xfrm>
          <a:prstGeom prst="wedgeEllipseCallout">
            <a:avLst>
              <a:gd name="adj1" fmla="val -60912"/>
              <a:gd name="adj2" fmla="val -19689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4  coagul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促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5 antifibrinolytics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抗纤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284720" y="9079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 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四节 促凝血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76000" y="2781000"/>
            <a:ext cx="5405400" cy="18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纤维蛋白溶解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833560" y="4572000"/>
            <a:ext cx="231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幼圆"/>
                <a:ea typeface="幼圆"/>
              </a:rPr>
              <a:t>氨甲苯酸 ，氨甲环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幼圆"/>
                <a:ea typeface="幼圆"/>
              </a:rPr>
              <a:t>天然形式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脂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植物）、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（肠道细菌合成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人工合成   水溶性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幼圆"/>
              </a:rPr>
              <a:t>、维生素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幼圆"/>
              </a:rPr>
              <a:t>K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4</a:t>
            </a:r>
            <a:r>
              <a:rPr b="1" lang="zh-CN" sz="3200" spc="-1" strike="noStrike" baseline="-25000">
                <a:solidFill>
                  <a:srgbClr val="000099"/>
                </a:solidFill>
                <a:latin typeface="Arial"/>
                <a:ea typeface="幼圆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84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幼圆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作为羧化酶的辅酶参与凝血因子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X 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合成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2"/>
          <p:cNvGrpSpPr/>
          <p:nvPr/>
        </p:nvGrpSpPr>
        <p:grpSpPr>
          <a:xfrm>
            <a:off x="392040" y="762120"/>
            <a:ext cx="8434800" cy="5321160"/>
            <a:chOff x="392040" y="762120"/>
            <a:chExt cx="8434800" cy="5321160"/>
          </a:xfrm>
        </p:grpSpPr>
        <p:sp>
          <p:nvSpPr>
            <p:cNvPr id="296" name="Text Box 3"/>
            <p:cNvSpPr/>
            <p:nvPr/>
          </p:nvSpPr>
          <p:spPr>
            <a:xfrm>
              <a:off x="3047760" y="3276720"/>
              <a:ext cx="905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 Box 4"/>
            <p:cNvSpPr/>
            <p:nvPr/>
          </p:nvSpPr>
          <p:spPr>
            <a:xfrm>
              <a:off x="4876560" y="32767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O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5"/>
            <p:cNvSpPr/>
            <p:nvPr/>
          </p:nvSpPr>
          <p:spPr>
            <a:xfrm>
              <a:off x="3200400" y="2438280"/>
              <a:ext cx="2514600" cy="838440"/>
            </a:xfrm>
            <a:custGeom>
              <a:avLst/>
              <a:gdLst>
                <a:gd name="textAreaLeft" fmla="*/ 439920 w 2514600"/>
                <a:gd name="textAreaRight" fmla="*/ 1823040 w 2514600"/>
                <a:gd name="textAreaTop" fmla="*/ 112320 h 838440"/>
                <a:gd name="textAreaBottom" fmla="*/ 7261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AutoShape 6"/>
            <p:cNvSpPr/>
            <p:nvPr/>
          </p:nvSpPr>
          <p:spPr>
            <a:xfrm flipH="1">
              <a:off x="3047760" y="3809880"/>
              <a:ext cx="2362320" cy="762120"/>
            </a:xfrm>
            <a:custGeom>
              <a:avLst/>
              <a:gdLst>
                <a:gd name="textAreaLeft" fmla="*/ 413280 w 2362320"/>
                <a:gd name="textAreaRight" fmla="*/ 1712880 w 2362320"/>
                <a:gd name="textAreaTop" fmla="*/ 101880 h 762120"/>
                <a:gd name="textAreaBottom" fmla="*/ 66024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Line 7"/>
            <p:cNvSpPr/>
            <p:nvPr/>
          </p:nvSpPr>
          <p:spPr>
            <a:xfrm>
              <a:off x="2133360" y="2286000"/>
              <a:ext cx="4419720" cy="0"/>
            </a:xfrm>
            <a:prstGeom prst="line">
              <a:avLst/>
            </a:prstGeom>
            <a:ln w="38160">
              <a:solidFill>
                <a:srgbClr val="046ca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8"/>
            <p:cNvSpPr/>
            <p:nvPr/>
          </p:nvSpPr>
          <p:spPr>
            <a:xfrm>
              <a:off x="3504960" y="1066680"/>
              <a:ext cx="1828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,  O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Arial"/>
                  <a:ea typeface="幼圆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羧基化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2895480" y="5562720"/>
              <a:ext cx="472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香豆素的作用机制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Text Box 10"/>
            <p:cNvSpPr/>
            <p:nvPr/>
          </p:nvSpPr>
          <p:spPr>
            <a:xfrm>
              <a:off x="764640" y="9144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990360" y="13716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2"/>
            <p:cNvSpPr/>
            <p:nvPr/>
          </p:nvSpPr>
          <p:spPr>
            <a:xfrm>
              <a:off x="757080" y="17431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990360" y="22096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Text Box 14"/>
            <p:cNvSpPr/>
            <p:nvPr/>
          </p:nvSpPr>
          <p:spPr>
            <a:xfrm>
              <a:off x="757080" y="2657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Line 15"/>
            <p:cNvSpPr/>
            <p:nvPr/>
          </p:nvSpPr>
          <p:spPr>
            <a:xfrm>
              <a:off x="990360" y="3124080"/>
              <a:ext cx="0" cy="6098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16"/>
            <p:cNvSpPr/>
            <p:nvPr/>
          </p:nvSpPr>
          <p:spPr>
            <a:xfrm>
              <a:off x="764280" y="36576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Line 17"/>
            <p:cNvSpPr/>
            <p:nvPr/>
          </p:nvSpPr>
          <p:spPr>
            <a:xfrm>
              <a:off x="1371600" y="3962520"/>
              <a:ext cx="53316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Text Box 18"/>
            <p:cNvSpPr/>
            <p:nvPr/>
          </p:nvSpPr>
          <p:spPr>
            <a:xfrm>
              <a:off x="1831320" y="37339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19"/>
            <p:cNvSpPr/>
            <p:nvPr/>
          </p:nvSpPr>
          <p:spPr>
            <a:xfrm>
              <a:off x="392040" y="4572000"/>
              <a:ext cx="796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Line 20"/>
            <p:cNvSpPr/>
            <p:nvPr/>
          </p:nvSpPr>
          <p:spPr>
            <a:xfrm>
              <a:off x="990360" y="4114800"/>
              <a:ext cx="0" cy="5335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Text Box 21"/>
            <p:cNvSpPr/>
            <p:nvPr/>
          </p:nvSpPr>
          <p:spPr>
            <a:xfrm>
              <a:off x="7181280" y="94932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Text Box 22"/>
            <p:cNvSpPr/>
            <p:nvPr/>
          </p:nvSpPr>
          <p:spPr>
            <a:xfrm>
              <a:off x="6716520" y="16765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Line 23"/>
            <p:cNvSpPr/>
            <p:nvPr/>
          </p:nvSpPr>
          <p:spPr>
            <a:xfrm>
              <a:off x="6949800" y="2143080"/>
              <a:ext cx="0" cy="6094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Text Box 24"/>
            <p:cNvSpPr/>
            <p:nvPr/>
          </p:nvSpPr>
          <p:spPr>
            <a:xfrm>
              <a:off x="6716520" y="259092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Line 25"/>
            <p:cNvSpPr/>
            <p:nvPr/>
          </p:nvSpPr>
          <p:spPr>
            <a:xfrm>
              <a:off x="6949800" y="3057480"/>
              <a:ext cx="0" cy="76212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Text Box 26"/>
            <p:cNvSpPr/>
            <p:nvPr/>
          </p:nvSpPr>
          <p:spPr>
            <a:xfrm>
              <a:off x="6723720" y="3591000"/>
              <a:ext cx="71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>
              <a:off x="7254720" y="3895560"/>
              <a:ext cx="380880" cy="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1" name="Text Box 28"/>
            <p:cNvSpPr/>
            <p:nvPr/>
          </p:nvSpPr>
          <p:spPr>
            <a:xfrm>
              <a:off x="6427440" y="4505400"/>
              <a:ext cx="8161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2" name="Line 29"/>
            <p:cNvSpPr/>
            <p:nvPr/>
          </p:nvSpPr>
          <p:spPr>
            <a:xfrm>
              <a:off x="6949800" y="4048200"/>
              <a:ext cx="0" cy="5331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30"/>
            <p:cNvSpPr/>
            <p:nvPr/>
          </p:nvSpPr>
          <p:spPr>
            <a:xfrm>
              <a:off x="7562520" y="3616200"/>
              <a:ext cx="126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OH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Line 31"/>
            <p:cNvSpPr/>
            <p:nvPr/>
          </p:nvSpPr>
          <p:spPr>
            <a:xfrm flipH="1">
              <a:off x="6949800" y="1380960"/>
              <a:ext cx="457200" cy="3812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Line 32"/>
            <p:cNvSpPr/>
            <p:nvPr/>
          </p:nvSpPr>
          <p:spPr>
            <a:xfrm flipH="1" flipV="1">
              <a:off x="6492240" y="1380600"/>
              <a:ext cx="381240" cy="381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6" name="Rectangle 33"/>
            <p:cNvSpPr/>
            <p:nvPr/>
          </p:nvSpPr>
          <p:spPr>
            <a:xfrm>
              <a:off x="4343400" y="4114800"/>
              <a:ext cx="75960" cy="609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4031280" y="47768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香豆素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8" name="Text Box 35"/>
            <p:cNvSpPr/>
            <p:nvPr/>
          </p:nvSpPr>
          <p:spPr>
            <a:xfrm>
              <a:off x="534960" y="5105520"/>
              <a:ext cx="75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lu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9" name="Rectangle 36"/>
            <p:cNvSpPr/>
            <p:nvPr/>
          </p:nvSpPr>
          <p:spPr>
            <a:xfrm>
              <a:off x="5562360" y="762120"/>
              <a:ext cx="1524240" cy="609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HOOC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0" name="Text Box 37"/>
            <p:cNvSpPr/>
            <p:nvPr/>
          </p:nvSpPr>
          <p:spPr>
            <a:xfrm>
              <a:off x="5486400" y="3200400"/>
              <a:ext cx="108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环氧化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38"/>
            <p:cNvSpPr/>
            <p:nvPr/>
          </p:nvSpPr>
          <p:spPr>
            <a:xfrm>
              <a:off x="2196000" y="3224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氢醌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32" name="Text Box 39"/>
          <p:cNvSpPr/>
          <p:nvPr/>
        </p:nvSpPr>
        <p:spPr>
          <a:xfrm>
            <a:off x="2340000" y="333360"/>
            <a:ext cx="359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VII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IX</a:t>
            </a:r>
            <a:r>
              <a:rPr b="1" i="1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、</a:t>
            </a:r>
            <a:r>
              <a:rPr b="1" i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X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1476360" y="981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[clinical  use]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755640" y="2205000"/>
            <a:ext cx="770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引起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收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合成障碍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凝血酶原所致的出血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抗凝血灭鼠药中毒的解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5724360" y="549360"/>
            <a:ext cx="3024360" cy="2016000"/>
          </a:xfrm>
          <a:prstGeom prst="cloudCallout">
            <a:avLst>
              <a:gd name="adj1" fmla="val -100499"/>
              <a:gd name="adj2" fmla="val 70000"/>
            </a:avLst>
          </a:prstGeom>
          <a:solidFill>
            <a:srgbClr val="ffffff"/>
          </a:solidFill>
          <a:ln w="93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梗阻性黄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胆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慢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5"/>
          <p:cNvSpPr/>
          <p:nvPr/>
        </p:nvSpPr>
        <p:spPr>
          <a:xfrm>
            <a:off x="5651640" y="2924280"/>
            <a:ext cx="2592360" cy="936360"/>
          </a:xfrm>
          <a:prstGeom prst="wedgeRoundRectCallout">
            <a:avLst>
              <a:gd name="adj1" fmla="val -89740"/>
              <a:gd name="adj2" fmla="val 45083"/>
              <a:gd name="adj3" fmla="val 16667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早产儿，长期应用广谱抗生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AutoShape 6"/>
          <p:cNvSpPr/>
          <p:nvPr/>
        </p:nvSpPr>
        <p:spPr>
          <a:xfrm>
            <a:off x="5651640" y="4724280"/>
            <a:ext cx="2374920" cy="1368720"/>
          </a:xfrm>
          <a:prstGeom prst="wedgeRectCallout">
            <a:avLst>
              <a:gd name="adj1" fmla="val -122995"/>
              <a:gd name="adj2" fmla="val -70300"/>
            </a:avLst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长期用香豆素类，水杨酸类等抑制凝血酶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525320" y="330120"/>
            <a:ext cx="55371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纤维蛋白溶解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63280" y="1915920"/>
            <a:ext cx="4411800" cy="263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AMB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氨甲环酸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MCH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纤溶亢进所致出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619280" y="90792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619280" y="2205000"/>
            <a:ext cx="611964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纤维蛋白溶解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500280"/>
            <a:ext cx="61196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小板聚集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619280" y="4797360"/>
            <a:ext cx="612144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凝血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533520" y="228600"/>
            <a:ext cx="3429000" cy="533520"/>
          </a:xfrm>
          <a:prstGeom prst="rect">
            <a:avLst/>
          </a:prstGeom>
          <a:solidFill>
            <a:srgbClr val="993300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内源性凝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intrinsic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4572000" y="228600"/>
            <a:ext cx="335268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外源性凝血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幼圆"/>
              </a:rPr>
              <a:t>extrinsic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495680" y="914400"/>
            <a:ext cx="3276720" cy="2438280"/>
          </a:xfrm>
          <a:prstGeom prst="flowChartMultidocumen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ddddd"/>
                </a:solidFill>
                <a:latin typeface="Arial"/>
                <a:ea typeface="幼圆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 flipH="1">
            <a:off x="532800" y="990720"/>
            <a:ext cx="3429000" cy="2438280"/>
          </a:xfrm>
          <a:prstGeom prst="flowChartMultidocument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1476360" y="3357720"/>
            <a:ext cx="6705720" cy="3276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幼圆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4952880" y="1828800"/>
            <a:ext cx="685800" cy="685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V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505320" y="44197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8229600" y="685800"/>
            <a:ext cx="609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3581280" y="2895480"/>
            <a:ext cx="83844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1763640" y="3573360"/>
            <a:ext cx="18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幼圆"/>
              </a:rPr>
              <a:t>共同途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3886200"/>
            <a:ext cx="990720" cy="0"/>
          </a:xfrm>
          <a:prstGeom prst="line">
            <a:avLst/>
          </a:prstGeom>
          <a:ln w="4140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2440440" y="91296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HMWK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219320" y="1295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1905120" y="1600200"/>
            <a:ext cx="1218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1981080" y="2209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 flipH="1">
            <a:off x="4571640" y="2590920"/>
            <a:ext cx="762120" cy="1295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2362320" y="8380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5943600" y="762120"/>
            <a:ext cx="0" cy="121896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233400" y="11415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组织因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6400800" y="1828800"/>
            <a:ext cx="838080" cy="685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VI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H="1">
            <a:off x="5714640" y="2133720"/>
            <a:ext cx="60948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495680" y="396252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1979640" y="436572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凝血酶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4191120" y="4724280"/>
            <a:ext cx="7617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132000" y="546732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4859280" y="573408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5739480" y="544500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幼圆"/>
              </a:rPr>
              <a:t>纤维蛋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Oval 29"/>
          <p:cNvSpPr/>
          <p:nvPr/>
        </p:nvSpPr>
        <p:spPr>
          <a:xfrm>
            <a:off x="3429000" y="358128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Line 30"/>
          <p:cNvSpPr/>
          <p:nvPr/>
        </p:nvSpPr>
        <p:spPr>
          <a:xfrm>
            <a:off x="2438280" y="1676520"/>
            <a:ext cx="0" cy="45720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>
            <a:off x="2133720" y="274320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>
            <a:off x="2438280" y="2286000"/>
            <a:ext cx="0" cy="3808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Oval 33"/>
          <p:cNvSpPr/>
          <p:nvPr/>
        </p:nvSpPr>
        <p:spPr>
          <a:xfrm>
            <a:off x="1523880" y="2514600"/>
            <a:ext cx="533520" cy="5335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幼圆"/>
              </a:rPr>
              <a:t>IX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>
            <a:off x="5410080" y="5029200"/>
            <a:ext cx="0" cy="60948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35"/>
          <p:cNvSpPr/>
          <p:nvPr/>
        </p:nvSpPr>
        <p:spPr>
          <a:xfrm>
            <a:off x="5003640" y="450864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36"/>
          <p:cNvSpPr/>
          <p:nvPr/>
        </p:nvSpPr>
        <p:spPr>
          <a:xfrm>
            <a:off x="5029200" y="3581280"/>
            <a:ext cx="6094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37"/>
          <p:cNvSpPr/>
          <p:nvPr/>
        </p:nvSpPr>
        <p:spPr>
          <a:xfrm>
            <a:off x="3200400" y="2514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IX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38"/>
          <p:cNvSpPr/>
          <p:nvPr/>
        </p:nvSpPr>
        <p:spPr>
          <a:xfrm>
            <a:off x="3200400" y="1371600"/>
            <a:ext cx="68580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Text Box 39"/>
          <p:cNvSpPr/>
          <p:nvPr/>
        </p:nvSpPr>
        <p:spPr>
          <a:xfrm>
            <a:off x="3125160" y="137160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40"/>
          <p:cNvSpPr/>
          <p:nvPr/>
        </p:nvSpPr>
        <p:spPr>
          <a:xfrm>
            <a:off x="3200400" y="1981080"/>
            <a:ext cx="68580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41"/>
          <p:cNvSpPr/>
          <p:nvPr/>
        </p:nvSpPr>
        <p:spPr>
          <a:xfrm>
            <a:off x="3202200" y="1981080"/>
            <a:ext cx="63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幼圆"/>
              </a:rPr>
              <a:t>XI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42"/>
          <p:cNvSpPr/>
          <p:nvPr/>
        </p:nvSpPr>
        <p:spPr>
          <a:xfrm>
            <a:off x="1296720" y="198108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XI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43">
            <a:hlinkClick r:id="rId1" action="ppaction://hlinksldjump"/>
          </p:cNvPr>
          <p:cNvSpPr/>
          <p:nvPr/>
        </p:nvSpPr>
        <p:spPr>
          <a:xfrm>
            <a:off x="8153280" y="6172200"/>
            <a:ext cx="304920" cy="38088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6975">
                <a:moveTo>
                  <a:pt x="0" y="0"/>
                </a:moveTo>
                <a:lnTo>
                  <a:pt x="21600" y="0"/>
                </a:lnTo>
                <a:lnTo>
                  <a:pt x="21600" y="26975"/>
                </a:lnTo>
                <a:lnTo>
                  <a:pt x="0" y="26975"/>
                </a:lnTo>
                <a:close/>
              </a:path>
              <a:path fill="lightenLess" w="21600" h="269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75">
                <a:moveTo>
                  <a:pt x="21600" y="0"/>
                </a:moveTo>
                <a:lnTo>
                  <a:pt x="21600" y="26975"/>
                </a:lnTo>
                <a:lnTo>
                  <a:pt x="20200" y="25575"/>
                </a:lnTo>
                <a:lnTo>
                  <a:pt x="20200" y="1400"/>
                </a:lnTo>
                <a:close/>
              </a:path>
              <a:path fill="darkenLess" w="21600" h="26975">
                <a:moveTo>
                  <a:pt x="21600" y="26975"/>
                </a:moveTo>
                <a:lnTo>
                  <a:pt x="0" y="26975"/>
                </a:lnTo>
                <a:lnTo>
                  <a:pt x="1400" y="25575"/>
                </a:lnTo>
                <a:lnTo>
                  <a:pt x="20200" y="25575"/>
                </a:lnTo>
                <a:close/>
              </a:path>
              <a:path fill="lighten" w="21600" h="26975">
                <a:moveTo>
                  <a:pt x="0" y="269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75"/>
                </a:lnTo>
                <a:close/>
              </a:path>
              <a:path fill="darken" w="21600" h="26975">
                <a:moveTo>
                  <a:pt x="10800" y="6524"/>
                </a:moveTo>
                <a:lnTo>
                  <a:pt x="13376" y="9135"/>
                </a:ln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lnTo>
                  <a:pt x="17763" y="13487"/>
                </a:lnTo>
                <a:lnTo>
                  <a:pt x="16109" y="13487"/>
                </a:lnTo>
                <a:lnTo>
                  <a:pt x="16109" y="20677"/>
                </a:lnTo>
                <a:lnTo>
                  <a:pt x="5491" y="20677"/>
                </a:lnTo>
                <a:lnTo>
                  <a:pt x="5491" y="13487"/>
                </a:lnTo>
                <a:lnTo>
                  <a:pt x="3837" y="13487"/>
                </a:lnTo>
                <a:close/>
              </a:path>
              <a:path fill="darkenLess" w="21600" h="26975">
                <a:moveTo>
                  <a:pt x="13376" y="9135"/>
                </a:moveTo>
                <a:lnTo>
                  <a:pt x="13376" y="7395"/>
                </a:lnTo>
                <a:lnTo>
                  <a:pt x="15152" y="7395"/>
                </a:lnTo>
                <a:lnTo>
                  <a:pt x="15152" y="10911"/>
                </a:lnTo>
                <a:close/>
              </a:path>
              <a:path fill="darkenLess" w="21600" h="26975">
                <a:moveTo>
                  <a:pt x="9877" y="16986"/>
                </a:moveTo>
                <a:lnTo>
                  <a:pt x="11723" y="16986"/>
                </a:lnTo>
                <a:lnTo>
                  <a:pt x="11723" y="20677"/>
                </a:lnTo>
                <a:lnTo>
                  <a:pt x="16109" y="20677"/>
                </a:lnTo>
                <a:lnTo>
                  <a:pt x="16109" y="13487"/>
                </a:lnTo>
                <a:lnTo>
                  <a:pt x="5491" y="13487"/>
                </a:lnTo>
                <a:lnTo>
                  <a:pt x="5491" y="20677"/>
                </a:lnTo>
                <a:lnTo>
                  <a:pt x="9877" y="20677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1042920" y="2565360"/>
            <a:ext cx="73915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幼圆"/>
              </a:rPr>
              <a:t>干扰凝血因子，阻止血液凝固的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1547640" y="2349360"/>
            <a:ext cx="6120000" cy="9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1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抗凝血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7520" y="352440"/>
            <a:ext cx="64152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★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第一节  肝 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eparin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708280"/>
            <a:ext cx="7199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发现：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eparin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J  Mclean, John Hopkins Medical School  in  1916.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62080" y="1547640"/>
            <a:ext cx="5484960" cy="33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一、特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带大量负电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强酸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肥大细胞含量较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凝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826920" y="2924280"/>
            <a:ext cx="792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a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抗凝作用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内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体外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均有强大抗凝作用</a:t>
            </a:r>
            <a:r>
              <a:rPr b="1" lang="en-US" sz="3200" spc="-1" strike="noStrike">
                <a:solidFill>
                  <a:srgbClr val="000099"/>
                </a:solidFill>
                <a:latin typeface="宋体"/>
                <a:ea typeface="宋体"/>
              </a:rPr>
              <a:t>, </a:t>
            </a: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起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快，静脉注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48:22Z</dcterms:modified>
  <cp:revision>3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